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A600-6CA2-4288-B2BD-18225266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54AA-0D08-45D7-A84D-40175008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5EEB-0AC8-4AE2-A326-DC74CF74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AF0-D793-4DED-912D-FDA3271D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F6E8-FE3D-406F-BAB6-21DED006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0D8F-139B-4D0A-90D3-D015AE46B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A21D-45C2-4CF2-9AF6-EE45B4B4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272D-D43C-47DB-800E-A4B2BCB3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8ED6-93B0-4F4A-A597-E23DBA1E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0B56-6009-4FEC-A62E-3261CC3B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CA8A-B140-489C-B8ED-094AFE03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FE83-E890-4AB0-A5EF-352965E4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515E-86B9-445E-830A-ACE339547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68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4400" spc="-1" strike="noStrike">
                <a:solidFill>
                  <a:srgbClr val="cc6600"/>
                </a:solidFill>
                <a:latin typeface="Arial"/>
              </a:rPr>
              <a:t>أسماء خالدة..من محاضرات شرح الاربعين النووي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00000" y="436536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3600" spc="-1" strike="noStrike">
                <a:solidFill>
                  <a:srgbClr val="967f1e"/>
                </a:solidFill>
                <a:latin typeface="Arial"/>
              </a:rPr>
              <a:t>للشيخ : سليمان الله</a:t>
            </a:r>
            <a:r>
              <a:rPr b="1" lang="ar-SA" sz="3600" spc="-1" strike="noStrike">
                <a:solidFill>
                  <a:srgbClr val="967f1e"/>
                </a:solidFill>
                <a:latin typeface="Arial"/>
              </a:rPr>
              <a:t>ي</a:t>
            </a:r>
            <a:r>
              <a:rPr b="1" lang="ar-KW" sz="3600" spc="-1" strike="noStrike">
                <a:solidFill>
                  <a:srgbClr val="967f1e"/>
                </a:solidFill>
                <a:latin typeface="Arial"/>
              </a:rPr>
              <a:t>مي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19760" y="836640"/>
            <a:ext cx="35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67f1e"/>
                </a:solidFill>
                <a:latin typeface="Arial"/>
              </a:rPr>
              <a:t>ترجمه ابن عم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95280" y="1987200"/>
            <a:ext cx="1019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عبد الله ابن عمر صاحبى جليل اسلم مع ابيه وهو صغير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قال الذهبى عنه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: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الامام القدوة شيخ الاسلام ابو عبد الرحمن القرش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العدوى المكى المدنى اسل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15920" y="3716280"/>
            <a:ext cx="7947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هو صغير وهاجر مع ابيه ولم يحتلم واستصغر يوم اح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فأول غزواته هى الخندق</a:t>
            </a: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هو مما كان بايع تحت الشجرة روى علم كثير ناف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عن النبى صلى الله عليه وسل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هو من المكثرين فى علم الحديث عن النبى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68360" y="252000"/>
            <a:ext cx="8161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يقول ابن عمر 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عرضنى الرسول فى يوم احد وانا ابن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14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فرفضن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وعرضنى فى الخند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وانا ابن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15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 فاجزنى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000" spc="-1" strike="noStrike">
                <a:solidFill>
                  <a:srgbClr val="cc6600"/>
                </a:solidFill>
                <a:latin typeface="Arial"/>
              </a:rPr>
              <a:t>رواة البخارى ومسلم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،،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فقد كان مجاهد منذ نعومه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اضفار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كان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عابد كثير العبادة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وقيل لنافع ماذا كان ابن عمروفى منزله قال لاتطيقونه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يتوضا لكل صلاة والمصحف فيما بينه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3284640"/>
            <a:ext cx="627552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فقد قال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النبى </a:t>
            </a:r>
            <a:r>
              <a:rPr b="1" lang="ar-KW" sz="2400" spc="-1" strike="noStrike">
                <a:solidFill>
                  <a:srgbClr val="967f1e"/>
                </a:solidFill>
                <a:latin typeface="Arial"/>
              </a:rPr>
              <a:t>صلى الله عليه وسلم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عن عبد الله ابن عم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نعم الرجل عبد الله لو كان يصل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ي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 من الليل 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قال سالم فكان بعدها لاينام من الليل الا قليل 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..</a:t>
            </a:r>
            <a:r>
              <a:rPr b="1" lang="ar-SA" sz="2000" spc="-1" strike="noStrike">
                <a:solidFill>
                  <a:srgbClr val="cc6600"/>
                </a:solidFill>
                <a:latin typeface="Arial"/>
              </a:rPr>
              <a:t>رواة البخار ومسل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وقيل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فى روايه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نعم عبد الله رجل لو كان يكثر الصلاة باليل 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"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cc6600"/>
                </a:solidFill>
                <a:latin typeface="Arial"/>
              </a:rPr>
              <a:t>فيقول الحافظ ابن حجر بمقتضاه </a:t>
            </a: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ان من كان يصل اللي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67f1e"/>
                </a:solidFill>
                <a:latin typeface="Arial"/>
              </a:rPr>
              <a:t>يوصف بكونه نعم الرجل</a:t>
            </a: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987840" y="621000"/>
            <a:ext cx="11310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كان عمر من الزهاد فقال عنه ابن مسعود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”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ن املك شباب قري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 نفسه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عن الدنيا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هو ابن عمر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قد اتينا ونحن متوافرو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ما قينا شاب املك لنفسه من ابن عمر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قالت عائشه رضى الله عنه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ارايت احد الزم من الامر الاو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ن ابن عمر 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"</a:t>
            </a:r>
            <a:r>
              <a:rPr b="1" lang="ar-KW" sz="2400" spc="-1" strike="noStrike">
                <a:solidFill>
                  <a:srgbClr val="cc66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91880" y="3357720"/>
            <a:ext cx="781308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وقال نافع كلما قرا ابن عمر قوله تعال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“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الم يان للذين ءامنوا ان تخشع قلوب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 لذكر الله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”</a:t>
            </a:r>
            <a:r>
              <a:rPr b="1" lang="ar-KW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بكى حتى يغلبه البكاء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وذكر انه كلما ذك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الرسول صلى الله عليه وسلم بكى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116000" y="692280"/>
            <a:ext cx="7176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وروى عن النبى قال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احق امرء مسلم له شىء يوصى به يبيت فوق ليلتين الا ووصيت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كتوبه عند رأسه</a:t>
            </a: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 "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قال ابن عمر فو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الله ما</a:t>
            </a:r>
            <a:r>
              <a:rPr b="1" lang="ar-KW" sz="28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مرت علي ليله منذ ان سمعت رسول الله يقول ذل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6600"/>
                </a:solidFill>
                <a:latin typeface="Arial"/>
              </a:rPr>
              <a:t> الا وعندي وصيت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1480" y="3860640"/>
            <a:ext cx="686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وتوفى ابن عمر وهو عمرة 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85</a:t>
            </a:r>
            <a:r>
              <a:rPr b="1" lang="en-US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KW" sz="32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سن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 .فى عام </a:t>
            </a:r>
            <a:r>
              <a:rPr b="1" lang="ar-KW" sz="3200" spc="-1" strike="noStrike">
                <a:solidFill>
                  <a:srgbClr val="cc6600"/>
                </a:solidFill>
                <a:latin typeface="Arial"/>
              </a:rPr>
              <a:t>73</a:t>
            </a:r>
            <a:r>
              <a:rPr b="1" lang="ar-SA" sz="3200" spc="-1" strike="noStrike">
                <a:solidFill>
                  <a:srgbClr val="cc6600"/>
                </a:solidFill>
                <a:latin typeface="Arial"/>
              </a:rPr>
              <a:t> من الهجر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 rot="21210000">
            <a:off x="0" y="980640"/>
            <a:ext cx="9144000" cy="4680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20493600">
            <a:off x="401400" y="2060640"/>
            <a:ext cx="7556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967f1e"/>
                </a:solidFill>
                <a:latin typeface="Arial"/>
              </a:rPr>
              <a:t>اعداد طالبا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6000" spc="-1" strike="noStrike">
                <a:solidFill>
                  <a:srgbClr val="967f1e"/>
                </a:solidFill>
                <a:latin typeface="Arial"/>
              </a:rPr>
              <a:t>ملتقى طالبات العل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7T13:10:35Z</dcterms:created>
  <dc:creator> HEART</dc:creator>
  <dc:description/>
  <cp:keywords/>
  <dc:language>en-US</dc:language>
  <cp:lastModifiedBy>xp</cp:lastModifiedBy>
  <dcterms:modified xsi:type="dcterms:W3CDTF">2007-07-02T10:47:08Z</dcterms:modified>
  <cp:revision>3</cp:revision>
  <dc:subject/>
  <dc:title>الشريحة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411025</vt:lpwstr>
  </property>
</Properties>
</file>